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EEAE-3463-453C-833F-642249A00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3F19-CA2F-4959-9F92-6BB03D668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2387-7CFD-41F5-9B11-7C8DA8F45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E244-01F8-40A6-A835-663D867FA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9908-7A27-485E-8093-8C179A106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5725-B8D6-4471-90F8-E3084EBD5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CFE9-EF67-494F-AD02-35E7DE351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AC1D-B9E9-4CD4-8389-BF1777310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DA1B-D555-4E8D-BC3E-656970756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2DAD-9FEE-48D8-B652-557A615AE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B98D-2E7B-48CF-8243-D1E123B93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8132-E32A-42D9-9DFB-E68D8A7E7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93628-A44F-4D66-8451-36980D9ED9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Martin Otter</cp:lastModifiedBy>
  <dcterms:modified xsi:type="dcterms:W3CDTF">2007-11-29T08:35:17Z</dcterms:modified>
  <cp:revision>1</cp:revision>
  <dc:subject/>
  <dc:title>Folie 1</dc:title>
</cp:coreProperties>
</file>